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77C1-920B-42C3-A901-DBA3F04A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DB89-38E6-4855-9D93-A91B0F160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73A-25F6-452A-A5AA-415857F4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E551-7ED2-4F18-9929-BF6175D0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40698-EC2E-49CB-B8A6-D0F69CF03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F218-AC0F-494D-9D02-4C6149F4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7CCE-B328-4B94-B2AE-3C78D5FB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7B95-AC9F-49CE-8D70-573E477D0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CF6A-E29B-4D73-8E41-4DFD35647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03F7-1A6C-41A4-9D41-7279CEE6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03D0-629A-480E-B34B-3268B5D4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A4FA-F4A7-4CC7-9831-F3759AD4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3BCF-1CE0-4C4F-BBA9-8153510A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DC939-C0F2-4090-A260-7A4EAD6F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09B0-27FC-40F7-BB81-2B6C8178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20746-AF03-47EE-ABB8-538463F59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827D-B9E3-458A-BD05-4E59B3532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5CF5-D2B5-4D9A-8858-76A3ACF8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BD8D-0067-487C-9EA7-128DB881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6E22-FE5E-488A-BB12-0E83EE5C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9EA2-353C-426C-84D4-04B000045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98E8-60A4-4040-A28A-7397DCE7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076F-1C15-4A48-ADB7-F086C40DD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D0E1-DBA1-4F78-9CEF-54B16143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2" marL="113148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4" marL="203652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5" marL="203652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6" marL="2036520" indent="-226080">
              <a:spcBef>
                <a:spcPts val="7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B016E-36AE-4A95-A3A7-80859E787B36}" type="slidenum"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EBBE-739F-448A-822F-F83155EE45E6}" type="slidenum">
              <a:rPr b="0" lang="en-US" sz="1400" spc="-1" strike="noStrike">
                <a:solidFill>
                  <a:srgbClr val="ffff66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66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ffff66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ffff66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Font typeface="Century Gothic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66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ffff66"/>
              </a:buClr>
              <a:buFont typeface="Century Gothic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66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66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ffff66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66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The Maldives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By Michael Dorsey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4" name=""/>
          <p:cNvSpPr/>
          <p:nvPr/>
        </p:nvSpPr>
        <p:spPr>
          <a:xfrm>
            <a:off x="1095480" y="1406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Century Gothic"/>
              </a:rPr>
              <a:t>Something about the Maldives </a:t>
            </a:r>
            <a:endParaRPr b="0" lang="en-US" sz="4400" spc="-1" strike="noStrike">
              <a:solidFill>
                <a:srgbClr val="ffff6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318" dir="12590756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66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Century Gothic"/>
              </a:rPr>
              <a:t>They are among the lowest sports on Earth and consequently are in danger of becoming the first drowning victims of global warming.</a:t>
            </a:r>
            <a:endParaRPr b="0" lang="en-US" sz="3200" spc="-1" strike="noStrike">
              <a:solidFill>
                <a:srgbClr val="ffff66"/>
              </a:solidFill>
              <a:latin typeface="Century Gothic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14400" y="3994200"/>
            <a:ext cx="3043080" cy="2373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019920" y="4343400"/>
            <a:ext cx="2482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7:22:11Z</dcterms:created>
  <dc:creator>PA Department of Education</dc:creator>
  <dc:description/>
  <dc:language>en-US</dc:language>
  <cp:lastModifiedBy>PA Department of Education</cp:lastModifiedBy>
  <dcterms:modified xsi:type="dcterms:W3CDTF">2009-05-21T17:35:00Z</dcterms:modified>
  <cp:revision>1</cp:revision>
  <dc:subject/>
  <dc:title>The Maldives</dc:title>
</cp:coreProperties>
</file>